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C119-4090-49D6-ADF1-13C9B8DAA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54D7-3C19-4E03-B777-E6DA84835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DA08-22E5-4093-AEDD-DAA0609E1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E357-0DA4-4A93-813F-FC0360D9A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B8DD6-7575-4DD7-86C7-4F8C3523E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BA189-303D-49EE-BC9C-F2327D1C7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17511-4D69-4CE6-9896-1F96B1B77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54502-0CFC-469E-80F3-1E93850C7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7F25C-227E-4180-B148-CC8FC86D2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77224-D046-4406-8808-E4730549D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8FF51-0B53-4047-A474-3B66C5AB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2274-ADE7-4EB1-8308-E7779AA00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AD45E-B40E-443E-8EC9-FD08B796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210A8-C5ED-4480-B962-FC1FCF61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AD5C8-97C7-46D5-A653-E5540DC73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E8B16-975D-40AE-8CC5-7869F6964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F4150-7867-4B61-90DC-FCFCA5422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66E4-4AE9-4117-AFB6-A3A5C239A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B7B2-14DD-42F8-964C-E06BD9746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9890-76C3-4AAD-A2DD-B57560B73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61CA-E286-4D39-B0FD-086983ACA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BF09-8BE5-4C9B-BA83-01CDE89A5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6DCB-0893-44B5-8DA5-431E57239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CD20-7F14-47E5-8ED5-AE81AA4B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E630C-B502-49EA-A1A5-DBFF0CBBF2E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2D60C-70EA-48E8-B809-06FE223B6D2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35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Тема урока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42600" y="1285920"/>
            <a:ext cx="800100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« Образование и наука. Русские первооткрыватели и путешественники.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Rectangle 7"/>
          <p:cNvSpPr/>
          <p:nvPr/>
        </p:nvSpPr>
        <p:spPr>
          <a:xfrm>
            <a:off x="3571920" y="5286240"/>
            <a:ext cx="5256000" cy="134172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Материал подготовлен учителем истор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Будинской ООШ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Антоненковой А.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/>
          </p:nvPr>
        </p:nvSpPr>
        <p:spPr>
          <a:xfrm>
            <a:off x="3492000" y="1413000"/>
            <a:ext cx="547236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Двигубский Иван Алексеевич - естествоиспытатель. Из семьи священника. Среднее образование получил в Харьковском Коллегиуме, по окончании которого был оставлен там учителем риторики. В 1793 г. поступил в на медицинский факультет Московского университета, в 1796 г. окончил его с золотой медалью и был назначен смотрителем кабинета естественной истории. В 1798 г., представив диссертацию , произведен в должность адъюнкта и начал преподавать естественную историю и физику в Благородном пансионе. В июле 1802 г. защитил диссертацию первый опыт описания фауны Московской губ., и получил степень доктора медицины, после чего "для усовершенствования в естественной истории, химии врачебном веществословии" был командирован заграниц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1" name="Picture 13" descr="dvigubsky"/>
          <p:cNvPicPr/>
          <p:nvPr/>
        </p:nvPicPr>
        <p:blipFill>
          <a:blip r:embed="rId1"/>
          <a:stretch/>
        </p:blipFill>
        <p:spPr>
          <a:xfrm>
            <a:off x="324000" y="1638360"/>
            <a:ext cx="3093840" cy="3878280"/>
          </a:xfrm>
          <a:prstGeom prst="rect">
            <a:avLst/>
          </a:prstGeom>
          <a:ln w="0">
            <a:noFill/>
          </a:ln>
        </p:spPr>
      </p:pic>
      <p:sp>
        <p:nvSpPr>
          <p:cNvPr id="432" name="Rectangle 14"/>
          <p:cNvSpPr/>
          <p:nvPr/>
        </p:nvSpPr>
        <p:spPr>
          <a:xfrm>
            <a:off x="324000" y="5661000"/>
            <a:ext cx="3095640" cy="792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d6b"/>
                </a:solidFill>
                <a:latin typeface="Tahoma"/>
              </a:rPr>
              <a:t>Иван Алексеевич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d6b"/>
                </a:solidFill>
                <a:latin typeface="Tahoma"/>
              </a:rPr>
              <a:t>Двигубск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Rectangle 15"/>
          <p:cNvSpPr/>
          <p:nvPr/>
        </p:nvSpPr>
        <p:spPr>
          <a:xfrm>
            <a:off x="250920" y="189000"/>
            <a:ext cx="8642160" cy="1008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Биолог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Биолог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Иусти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Евдокимови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Дядьковск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Выдвинул и доказал идею о том, что все  явления в природе обусловлены естественными причинами и подчинены общим законам развит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4067280" y="1600200"/>
            <a:ext cx="47750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одился 17 февраля 1792 г., имение Пип (Эстляндия). Умер 16 ноября 1876 г., Дерпт. Естествоиспытатель. Иностранный член-корреспондент РАН с 20 декабря 1826 г., ординарный академик по зоологии с 9 апреля 1828 г., иностранный почетный член с 28 октября 1830 г., вторично ординарный академик с 11 апреля 1834 г. по 27 октября 1862 г., почетный член со 2 ноября 1862 г. с правом присутствия и голоса в заседаниях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8" name="Picture 9" descr="К.М.Бэр"/>
          <p:cNvPicPr/>
          <p:nvPr/>
        </p:nvPicPr>
        <p:blipFill>
          <a:blip r:embed="rId1"/>
          <a:stretch/>
        </p:blipFill>
        <p:spPr>
          <a:xfrm>
            <a:off x="468360" y="1341360"/>
            <a:ext cx="3181320" cy="3810240"/>
          </a:xfrm>
          <a:prstGeom prst="rect">
            <a:avLst/>
          </a:prstGeom>
          <a:ln w="0">
            <a:noFill/>
          </a:ln>
        </p:spPr>
      </p:pic>
      <p:sp>
        <p:nvSpPr>
          <p:cNvPr id="439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Биолог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0" name="Rectangle 11"/>
          <p:cNvSpPr/>
          <p:nvPr/>
        </p:nvSpPr>
        <p:spPr>
          <a:xfrm>
            <a:off x="4427640" y="6021360"/>
            <a:ext cx="4176720" cy="720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« Всеобщий закон развит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природы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Rectangle 12"/>
          <p:cNvSpPr/>
          <p:nvPr/>
        </p:nvSpPr>
        <p:spPr>
          <a:xfrm>
            <a:off x="179280" y="5445000"/>
            <a:ext cx="3600720" cy="792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a5c6c"/>
                </a:solidFill>
                <a:latin typeface="Tahoma"/>
              </a:rPr>
              <a:t>Карл Максимович Бэр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Медицин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284720" y="1600200"/>
            <a:ext cx="4557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Являлся основоположником военно – полевой хирург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 годы Крымской войны применял наркоз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Использовал  для лечения переломов неподвижную гипсовую повязк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4" name="Picture 10" descr="Николай Пирогов"/>
          <p:cNvPicPr/>
          <p:nvPr/>
        </p:nvPicPr>
        <p:blipFill>
          <a:blip r:embed="rId1"/>
          <a:stretch/>
        </p:blipFill>
        <p:spPr>
          <a:xfrm>
            <a:off x="826920" y="1665360"/>
            <a:ext cx="3170520" cy="3527280"/>
          </a:xfrm>
          <a:prstGeom prst="rect">
            <a:avLst/>
          </a:prstGeom>
          <a:ln w="0">
            <a:noFill/>
          </a:ln>
        </p:spPr>
      </p:pic>
      <p:sp>
        <p:nvSpPr>
          <p:cNvPr id="445" name="Rectangle 11"/>
          <p:cNvSpPr/>
          <p:nvPr/>
        </p:nvSpPr>
        <p:spPr>
          <a:xfrm>
            <a:off x="324000" y="5300640"/>
            <a:ext cx="3887640" cy="792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Н.Н. Пирог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Геолог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7" name="AutoShape 8"/>
          <p:cNvSpPr/>
          <p:nvPr/>
        </p:nvSpPr>
        <p:spPr>
          <a:xfrm rot="1698600">
            <a:off x="3132000" y="141264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AutoShape 9"/>
          <p:cNvSpPr/>
          <p:nvPr/>
        </p:nvSpPr>
        <p:spPr>
          <a:xfrm rot="20597400">
            <a:off x="6227640" y="141264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Rectangle 10"/>
          <p:cNvSpPr/>
          <p:nvPr/>
        </p:nvSpPr>
        <p:spPr>
          <a:xfrm>
            <a:off x="0" y="2349360"/>
            <a:ext cx="4572000" cy="4321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« нептунисты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d6b"/>
                </a:solidFill>
                <a:latin typeface="Tahoma"/>
              </a:rPr>
              <a:t>Считали, что все геологическ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5b5d6b"/>
                </a:solidFill>
                <a:latin typeface="Tahoma"/>
              </a:rPr>
              <a:t>процессы обусловлены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d6b"/>
                </a:solidFill>
                <a:latin typeface="Tahoma"/>
              </a:rPr>
              <a:t>действием вод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Rectangle 11"/>
          <p:cNvSpPr/>
          <p:nvPr/>
        </p:nvSpPr>
        <p:spPr>
          <a:xfrm>
            <a:off x="4788000" y="2349360"/>
            <a:ext cx="4176720" cy="4319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« плутонисты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d6b"/>
                </a:solidFill>
                <a:latin typeface="Tahoma"/>
              </a:rPr>
              <a:t>Полагали, что основн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d6b"/>
                </a:solidFill>
                <a:latin typeface="Tahoma"/>
              </a:rPr>
              <a:t>этих процесс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d6b"/>
                </a:solidFill>
                <a:latin typeface="Tahoma"/>
              </a:rPr>
              <a:t>является налич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d6b"/>
                </a:solidFill>
                <a:latin typeface="Tahoma"/>
              </a:rPr>
              <a:t>«центрального огня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d6b"/>
                </a:solidFill>
                <a:latin typeface="Tahoma"/>
              </a:rPr>
              <a:t>внутри Земл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301680" y="148392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Шёл медленный процесс накопления знаний, который привёл в последствии к революции в этой науке. Главным достижением стало создание мощных телескопов, которые позволили  составить более детальное описание Солнечной системы. В 1839 году была создана Пулковская обсерватория, ставшая центром  астрономических работ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Астроном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/>
          </p:nvPr>
        </p:nvSpPr>
        <p:spPr>
          <a:xfrm>
            <a:off x="4211280" y="1341000"/>
            <a:ext cx="4753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Лобачевский Николай Иванович (1792-1856), русский математик, создатель неевклидовой геометрии (геометрия Лобачевского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Ректор Казанского университета (1827-1846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Труды по алгебре, математическому анализу, теории вероятностей, механике, физике и астроном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4" name="Picture 7" descr="Рисунок4"/>
          <p:cNvPicPr/>
          <p:nvPr/>
        </p:nvPicPr>
        <p:blipFill>
          <a:blip r:embed="rId1"/>
          <a:stretch/>
        </p:blipFill>
        <p:spPr>
          <a:xfrm>
            <a:off x="324000" y="1700280"/>
            <a:ext cx="3651120" cy="4824360"/>
          </a:xfrm>
          <a:prstGeom prst="rect">
            <a:avLst/>
          </a:prstGeom>
          <a:ln w="76320">
            <a:solidFill>
              <a:srgbClr val="a3c145"/>
            </a:solidFill>
            <a:miter/>
          </a:ln>
        </p:spPr>
      </p:pic>
      <p:sp>
        <p:nvSpPr>
          <p:cNvPr id="455" name="PlaceHolder 2"/>
          <p:cNvSpPr>
            <a:spLocks noGrp="1"/>
          </p:cNvSpPr>
          <p:nvPr>
            <p:ph type="title"/>
          </p:nvPr>
        </p:nvSpPr>
        <p:spPr>
          <a:xfrm>
            <a:off x="301680" y="-36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Математи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2" descr="лобаче"/>
          <p:cNvPicPr/>
          <p:nvPr/>
        </p:nvPicPr>
        <p:blipFill>
          <a:blip r:embed="rId1"/>
          <a:stretch/>
        </p:blipFill>
        <p:spPr>
          <a:xfrm>
            <a:off x="5148360" y="1628640"/>
            <a:ext cx="3589200" cy="4392720"/>
          </a:xfrm>
          <a:prstGeom prst="rect">
            <a:avLst/>
          </a:prstGeom>
          <a:ln w="76320">
            <a:solidFill>
              <a:srgbClr val="a3c145"/>
            </a:solidFill>
            <a:miter/>
          </a:ln>
        </p:spPr>
      </p:pic>
      <p:sp>
        <p:nvSpPr>
          <p:cNvPr id="457" name="Rectangle 3"/>
          <p:cNvSpPr/>
          <p:nvPr/>
        </p:nvSpPr>
        <p:spPr>
          <a:xfrm>
            <a:off x="468360" y="1628640"/>
            <a:ext cx="4317840" cy="5040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В 1826 г. профессор Казанского университета Н.Н.Лобачевский создал неевклидову геометрию, которая нашла практическое применение только во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II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- половине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 XX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-ве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Text Box 4"/>
          <p:cNvSpPr/>
          <p:nvPr/>
        </p:nvSpPr>
        <p:spPr>
          <a:xfrm>
            <a:off x="5906520" y="6165720"/>
            <a:ext cx="2626920" cy="459720"/>
          </a:xfrm>
          <a:prstGeom prst="rect">
            <a:avLst/>
          </a:prstGeom>
          <a:solidFill>
            <a:srgbClr val="9383b3"/>
          </a:solidFill>
          <a:ln w="7632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Н.И.Лобачевск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Математи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2"/>
          <p:cNvSpPr/>
          <p:nvPr/>
        </p:nvSpPr>
        <p:spPr>
          <a:xfrm>
            <a:off x="250920" y="1528920"/>
            <a:ext cx="4321080" cy="5329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Петров Василий Владимирович (1761-1834), российский физик, один из первых российских электротехников, академик Петербургской АН (1809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1" name="Picture 3" descr="петров"/>
          <p:cNvPicPr/>
          <p:nvPr/>
        </p:nvPicPr>
        <p:blipFill>
          <a:blip r:embed="rId2"/>
          <a:stretch/>
        </p:blipFill>
        <p:spPr>
          <a:xfrm>
            <a:off x="5003640" y="1989000"/>
            <a:ext cx="3654720" cy="3959280"/>
          </a:xfrm>
          <a:prstGeom prst="rect">
            <a:avLst/>
          </a:prstGeom>
          <a:ln w="76320">
            <a:solidFill>
              <a:srgbClr val="a3c145"/>
            </a:solidFill>
            <a:miter/>
          </a:ln>
        </p:spPr>
      </p:pic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Физи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859280" y="512640"/>
            <a:ext cx="4284720" cy="5832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Ленц Эмилий Христианович (1804 – 1865)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, р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усский физик  и электротехник, академик Петербургской АН (1830), ректор Санкт-Петербургского университета               (с 1863).</a:t>
            </a: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4" name="Picture 3" descr="ленц"/>
          <p:cNvPicPr/>
          <p:nvPr/>
        </p:nvPicPr>
        <p:blipFill>
          <a:blip r:embed="rId2"/>
          <a:stretch/>
        </p:blipFill>
        <p:spPr>
          <a:xfrm>
            <a:off x="684360" y="1844640"/>
            <a:ext cx="3463920" cy="4537080"/>
          </a:xfrm>
          <a:prstGeom prst="rect">
            <a:avLst/>
          </a:prstGeom>
          <a:ln w="76320">
            <a:solidFill>
              <a:srgbClr val="a3c145"/>
            </a:solidFill>
            <a:miter/>
          </a:ln>
        </p:spPr>
      </p:pic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4105080" cy="105228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Физи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Сегодня на уроке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знакомимся с развитием образования в первой половине 19 век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ясним, как развитие науки сказалось на развитии всего государств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знакомимся с путешественниками, выясним, как их открытия повлияли на развитие Росс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285480" y="1642680"/>
            <a:ext cx="8675640" cy="4714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a3c145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Выдающийся вклад в физику составили  работы Ленца по электромагнитной индукции и нагревательному действию ток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Им установлено знаменитое правило направления электродвижущей силы индукции (закон Ленца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В 1842 г. независимо о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Дж. Джоуля Ленц открыл закон теплового действия электрического тока (закон Джоуля - Ленца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Совместно с Б.С.Якоби впервые разработал методы расчета электромагнитов в электрических машина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title"/>
          </p:nvPr>
        </p:nvSpPr>
        <p:spPr>
          <a:xfrm>
            <a:off x="611280" y="188640"/>
            <a:ext cx="8175600" cy="11682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Физи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2"/>
          <p:cNvSpPr/>
          <p:nvPr/>
        </p:nvSpPr>
        <p:spPr>
          <a:xfrm>
            <a:off x="1112760" y="60958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/>
          </p:nvPr>
        </p:nvSpPr>
        <p:spPr>
          <a:xfrm>
            <a:off x="4286160" y="1500120"/>
            <a:ext cx="4857840" cy="50133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a3c145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Якоби Борис Семенович (наст. имя и фам. Мориц Герман фон Якоби,) (21 сентября 1801, Потсдам — 11 марта 1874, Санкт-Петербург), российский физик и изобретатель в области электротехники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0" name="Picture 4" descr="Jakobi_B"/>
          <p:cNvPicPr/>
          <p:nvPr/>
        </p:nvPicPr>
        <p:blipFill>
          <a:blip r:embed="rId2"/>
          <a:stretch/>
        </p:blipFill>
        <p:spPr>
          <a:xfrm>
            <a:off x="250920" y="1773360"/>
            <a:ext cx="3738600" cy="4824360"/>
          </a:xfrm>
          <a:prstGeom prst="rect">
            <a:avLst/>
          </a:prstGeom>
          <a:ln w="76320">
            <a:solidFill>
              <a:srgbClr val="a3c145"/>
            </a:solidFill>
            <a:miter/>
          </a:ln>
        </p:spPr>
      </p:pic>
      <p:sp>
        <p:nvSpPr>
          <p:cNvPr id="471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Физи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/>
          </p:nvPr>
        </p:nvSpPr>
        <p:spPr>
          <a:xfrm>
            <a:off x="4788000" y="1483920"/>
            <a:ext cx="4170240" cy="46832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a3c145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Б.Якоби и Э.Ленц разработали теорию электрических явлений на основе которой был созданы электродвигатель и гальванопласти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Text Box 4"/>
          <p:cNvSpPr/>
          <p:nvPr/>
        </p:nvSpPr>
        <p:spPr>
          <a:xfrm>
            <a:off x="250920" y="5373720"/>
            <a:ext cx="4103640" cy="1191240"/>
          </a:xfrm>
          <a:prstGeom prst="rect">
            <a:avLst/>
          </a:prstGeom>
          <a:solidFill>
            <a:srgbClr val="9383b3"/>
          </a:solidFill>
          <a:ln w="7632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Электрическ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двигател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Б.С.Якоб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4" name="Picture 5" descr="Рисунок3"/>
          <p:cNvPicPr/>
          <p:nvPr/>
        </p:nvPicPr>
        <p:blipFill>
          <a:blip r:embed="rId2"/>
          <a:stretch/>
        </p:blipFill>
        <p:spPr>
          <a:xfrm>
            <a:off x="468360" y="1461960"/>
            <a:ext cx="3606840" cy="3934080"/>
          </a:xfrm>
          <a:prstGeom prst="rect">
            <a:avLst/>
          </a:prstGeom>
          <a:ln w="76320">
            <a:solidFill>
              <a:srgbClr val="a3c145"/>
            </a:solidFill>
            <a:miter/>
          </a:ln>
        </p:spPr>
      </p:pic>
      <p:sp>
        <p:nvSpPr>
          <p:cNvPr id="475" name="AutoShape 6"/>
          <p:cNvSpPr/>
          <p:nvPr/>
        </p:nvSpPr>
        <p:spPr>
          <a:xfrm>
            <a:off x="900000" y="4508640"/>
            <a:ext cx="936720" cy="647640"/>
          </a:xfrm>
          <a:custGeom>
            <a:avLst/>
            <a:gdLst>
              <a:gd name="textAreaLeft" fmla="*/ 41760 w 936720"/>
              <a:gd name="textAreaRight" fmla="*/ 894960 w 936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1236" h="21600">
                <a:moveTo>
                  <a:pt x="0" y="0"/>
                </a:moveTo>
                <a:lnTo>
                  <a:pt x="31236" y="0"/>
                </a:lnTo>
                <a:lnTo>
                  <a:pt x="31236" y="21600"/>
                </a:lnTo>
                <a:lnTo>
                  <a:pt x="0" y="21600"/>
                </a:lnTo>
                <a:close/>
              </a:path>
              <a:path fill="lightenLess" w="31236" h="21600">
                <a:moveTo>
                  <a:pt x="0" y="0"/>
                </a:moveTo>
                <a:lnTo>
                  <a:pt x="31236" y="0"/>
                </a:lnTo>
                <a:lnTo>
                  <a:pt x="29836" y="1400"/>
                </a:lnTo>
                <a:lnTo>
                  <a:pt x="1400" y="1400"/>
                </a:lnTo>
                <a:close/>
              </a:path>
              <a:path fill="darken" w="31236" h="21600">
                <a:moveTo>
                  <a:pt x="31236" y="0"/>
                </a:moveTo>
                <a:lnTo>
                  <a:pt x="31236" y="21600"/>
                </a:lnTo>
                <a:lnTo>
                  <a:pt x="29836" y="20200"/>
                </a:lnTo>
                <a:lnTo>
                  <a:pt x="29836" y="1400"/>
                </a:lnTo>
                <a:close/>
              </a:path>
              <a:path fill="darkenLess" w="31236" h="21600">
                <a:moveTo>
                  <a:pt x="31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36" y="20200"/>
                </a:lnTo>
                <a:close/>
              </a:path>
              <a:path fill="lighten" w="31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AutoShape 7"/>
          <p:cNvSpPr/>
          <p:nvPr/>
        </p:nvSpPr>
        <p:spPr>
          <a:xfrm>
            <a:off x="1476360" y="4724280"/>
            <a:ext cx="936720" cy="648000"/>
          </a:xfrm>
          <a:custGeom>
            <a:avLst/>
            <a:gdLst>
              <a:gd name="textAreaLeft" fmla="*/ 41760 w 936720"/>
              <a:gd name="textAreaRight" fmla="*/ 894960 w 93672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31219" h="21600">
                <a:moveTo>
                  <a:pt x="0" y="0"/>
                </a:moveTo>
                <a:lnTo>
                  <a:pt x="31219" y="0"/>
                </a:lnTo>
                <a:lnTo>
                  <a:pt x="31219" y="21600"/>
                </a:lnTo>
                <a:lnTo>
                  <a:pt x="0" y="21600"/>
                </a:lnTo>
                <a:close/>
              </a:path>
              <a:path fill="lightenLess" w="31219" h="21600">
                <a:moveTo>
                  <a:pt x="0" y="0"/>
                </a:moveTo>
                <a:lnTo>
                  <a:pt x="31219" y="0"/>
                </a:lnTo>
                <a:lnTo>
                  <a:pt x="29819" y="1400"/>
                </a:lnTo>
                <a:lnTo>
                  <a:pt x="1400" y="1400"/>
                </a:lnTo>
                <a:close/>
              </a:path>
              <a:path fill="darken" w="31219" h="21600">
                <a:moveTo>
                  <a:pt x="31219" y="0"/>
                </a:moveTo>
                <a:lnTo>
                  <a:pt x="31219" y="21600"/>
                </a:lnTo>
                <a:lnTo>
                  <a:pt x="29819" y="20200"/>
                </a:lnTo>
                <a:lnTo>
                  <a:pt x="29819" y="1400"/>
                </a:lnTo>
                <a:close/>
              </a:path>
              <a:path fill="darkenLess" w="31219" h="21600">
                <a:moveTo>
                  <a:pt x="312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19" y="20200"/>
                </a:lnTo>
                <a:close/>
              </a:path>
              <a:path fill="lighten" w="312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Физи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/>
          </p:nvPr>
        </p:nvSpPr>
        <p:spPr>
          <a:xfrm>
            <a:off x="4788000" y="1196640"/>
            <a:ext cx="4356000" cy="52563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a3c145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Б. Якоби изобрел буквопечатающий аппарат в 1839 г. Этот аппарат стал практически первым телеграфным записывающим устройством и действовал на подземной линии Петербург - Царское Сел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9" name="Picture 3" descr="Jacobi%202_B4021840A341420C81EC3BFD7E3F699E"/>
          <p:cNvPicPr/>
          <p:nvPr/>
        </p:nvPicPr>
        <p:blipFill>
          <a:blip r:embed="rId2"/>
          <a:stretch/>
        </p:blipFill>
        <p:spPr>
          <a:xfrm>
            <a:off x="179280" y="981000"/>
            <a:ext cx="4249800" cy="3305160"/>
          </a:xfrm>
          <a:prstGeom prst="rect">
            <a:avLst/>
          </a:prstGeom>
          <a:ln w="76320">
            <a:solidFill>
              <a:srgbClr val="a3c145"/>
            </a:solidFill>
            <a:miter/>
          </a:ln>
        </p:spPr>
      </p:pic>
      <p:pic>
        <p:nvPicPr>
          <p:cNvPr id="480" name="Picture 4" descr="image64"/>
          <p:cNvPicPr/>
          <p:nvPr/>
        </p:nvPicPr>
        <p:blipFill>
          <a:blip r:embed="rId3"/>
          <a:stretch/>
        </p:blipFill>
        <p:spPr>
          <a:xfrm>
            <a:off x="324000" y="4508640"/>
            <a:ext cx="3960720" cy="2146320"/>
          </a:xfrm>
          <a:prstGeom prst="rect">
            <a:avLst/>
          </a:prstGeom>
          <a:ln w="76320">
            <a:solidFill>
              <a:srgbClr val="a3c145"/>
            </a:solidFill>
            <a:miter/>
          </a:ln>
        </p:spPr>
      </p:pic>
      <p:sp>
        <p:nvSpPr>
          <p:cNvPr id="481" name="PlaceHolder 2"/>
          <p:cNvSpPr>
            <a:spLocks noGrp="1"/>
          </p:cNvSpPr>
          <p:nvPr>
            <p:ph type="title"/>
          </p:nvPr>
        </p:nvSpPr>
        <p:spPr>
          <a:xfrm>
            <a:off x="4319280" y="115920"/>
            <a:ext cx="4824360" cy="7524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Физик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тр. 105- 10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Хим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Русские путешественники 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и первооткрывател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067280" y="1600200"/>
            <a:ext cx="47750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В 1803 г. на кораблях « Надежда» и « Нева» отправились в экспедицию на исследования северной части Тихого океана. В ходе плавания были нанесены на карту более тысячи километров берегов Сахалина, собраны наблюдения о многих районах  через которые проплывал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6" name="Picture 11" descr="is?FullvBzpQWBQH6QPUHfSwvLU_T-KMEaGkHOA9HyLNpw"/>
          <p:cNvPicPr/>
          <p:nvPr/>
        </p:nvPicPr>
        <p:blipFill>
          <a:blip r:embed="rId1"/>
          <a:stretch/>
        </p:blipFill>
        <p:spPr>
          <a:xfrm>
            <a:off x="900000" y="1773360"/>
            <a:ext cx="2841840" cy="3673440"/>
          </a:xfrm>
          <a:prstGeom prst="rect">
            <a:avLst/>
          </a:prstGeom>
          <a:ln w="0">
            <a:noFill/>
          </a:ln>
        </p:spPr>
      </p:pic>
      <p:sp>
        <p:nvSpPr>
          <p:cNvPr id="487" name="Rectangle 12"/>
          <p:cNvSpPr/>
          <p:nvPr/>
        </p:nvSpPr>
        <p:spPr>
          <a:xfrm>
            <a:off x="539640" y="5805360"/>
            <a:ext cx="3382920" cy="64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И.Ф. Крузенштер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Русские путешественники 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и первооткрывател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995280" y="1599840"/>
            <a:ext cx="48466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Открыл один из островов Гавайского архипелага, названный его именем. Собрал много данных об Алеутских островах и Аляске, островах тихого и Ледовитого океан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0" name="Picture 11" descr="lisyanskiy"/>
          <p:cNvPicPr/>
          <p:nvPr/>
        </p:nvPicPr>
        <p:blipFill>
          <a:blip r:embed="rId1"/>
          <a:stretch/>
        </p:blipFill>
        <p:spPr>
          <a:xfrm>
            <a:off x="468360" y="1773360"/>
            <a:ext cx="2936880" cy="3671640"/>
          </a:xfrm>
          <a:prstGeom prst="rect">
            <a:avLst/>
          </a:prstGeom>
          <a:ln w="0">
            <a:noFill/>
          </a:ln>
        </p:spPr>
      </p:pic>
      <p:sp>
        <p:nvSpPr>
          <p:cNvPr id="491" name="Rectangle 12"/>
          <p:cNvSpPr/>
          <p:nvPr/>
        </p:nvSpPr>
        <p:spPr>
          <a:xfrm>
            <a:off x="250920" y="5661000"/>
            <a:ext cx="3744720" cy="720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Юрий Фёдорович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Лисянск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Русские путешественники 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и первооткрывател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788000" y="1600200"/>
            <a:ext cx="405432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Участник первой русской кругосветной экспедиции. В 1819 – 1821 гг. на шлюпках « Восток» и « Мирный» отправились в путешествие.  16 января подошли к берегам неведомой  Антарктиды. Ими была открыта группа островов, названная островами Россиян. Были сделаны важнейшие географические открытия, привезены ценные коллекции, данные наблюдений за водами Мирового океана и ледяными покрытиями нового континен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4" name="Picture 8" descr="Портрет"/>
          <p:cNvPicPr/>
          <p:nvPr/>
        </p:nvPicPr>
        <p:blipFill>
          <a:blip r:embed="rId1"/>
          <a:stretch/>
        </p:blipFill>
        <p:spPr>
          <a:xfrm>
            <a:off x="179280" y="1484280"/>
            <a:ext cx="2016360" cy="281484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11" descr="Михаил Петрович Лазарев.jpg"/>
          <p:cNvPicPr/>
          <p:nvPr/>
        </p:nvPicPr>
        <p:blipFill>
          <a:blip r:embed="rId2"/>
          <a:stretch/>
        </p:blipFill>
        <p:spPr>
          <a:xfrm>
            <a:off x="2700360" y="2708280"/>
            <a:ext cx="2251080" cy="3024360"/>
          </a:xfrm>
          <a:prstGeom prst="rect">
            <a:avLst/>
          </a:prstGeom>
          <a:ln w="0">
            <a:noFill/>
          </a:ln>
        </p:spPr>
      </p:pic>
      <p:sp>
        <p:nvSpPr>
          <p:cNvPr id="496" name="WordArt 12"/>
          <p:cNvSpPr txBox="1"/>
          <p:nvPr/>
        </p:nvSpPr>
        <p:spPr>
          <a:xfrm>
            <a:off x="179280" y="4437000"/>
            <a:ext cx="2448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Ф.Ф. Беллинсгаузе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97" name="WordArt 13"/>
          <p:cNvSpPr txBox="1"/>
          <p:nvPr/>
        </p:nvSpPr>
        <p:spPr>
          <a:xfrm>
            <a:off x="2556000" y="5805360"/>
            <a:ext cx="2447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.П. Лазаре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Русские путешественники 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и первооткрывател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99" name="Picture 12" descr="Портрет"/>
          <p:cNvPicPr/>
          <p:nvPr/>
        </p:nvPicPr>
        <p:blipFill>
          <a:blip r:embed="rId1"/>
          <a:stretch/>
        </p:blipFill>
        <p:spPr>
          <a:xfrm>
            <a:off x="250920" y="1700280"/>
            <a:ext cx="3333600" cy="4033800"/>
          </a:xfrm>
          <a:prstGeom prst="rect">
            <a:avLst/>
          </a:prstGeom>
          <a:ln w="0">
            <a:noFill/>
          </a:ln>
        </p:spPr>
      </p:pic>
      <p:sp>
        <p:nvSpPr>
          <p:cNvPr id="500" name="Rectangle 13"/>
          <p:cNvSpPr/>
          <p:nvPr/>
        </p:nvSpPr>
        <p:spPr>
          <a:xfrm>
            <a:off x="250920" y="5661000"/>
            <a:ext cx="3744720" cy="720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Александр Андреевич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Баран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Rectangle 14"/>
          <p:cNvSpPr/>
          <p:nvPr/>
        </p:nvSpPr>
        <p:spPr>
          <a:xfrm>
            <a:off x="3924360" y="1521000"/>
            <a:ext cx="4968720" cy="38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Исследовал территории, примыкавшие к Тихоокеанскому побережью Северо-Западной Америки, установил торговые связи с Калифорнией, Гавайскими островами, Китаем. По распоряжению Баранова в 1812 году основан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Форт Росс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 Калифорнии. Также основал большинство русских поселений на Аляске, в том числе Новоархангельск (с 1867 года — Ситка) и перенес туда центр Русской Америки. За «…усердие его к заведению, утверждению и расширению в Америке российской торговли» в 1799 году император Павел I Петрович наградил Баранова именной медалью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Русские путешественники 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и первооткрывател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995280" y="1600200"/>
            <a:ext cx="48466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23 ноября (5 декабря) 1813),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Дракино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, Костромской губернии — 17 ( 29) апреля 1876, Санкт-Петербург) — российский адмирал (1874 год), исследователь Дальнего Востока, основатель города Николаевск-на-Амуре. Доказал, что устье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Амура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доступно для входа морских судов и что Сахалин — остро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4" name="Picture 8" descr="Портрет"/>
          <p:cNvPicPr/>
          <p:nvPr/>
        </p:nvPicPr>
        <p:blipFill>
          <a:blip r:embed="rId1"/>
          <a:stretch/>
        </p:blipFill>
        <p:spPr>
          <a:xfrm>
            <a:off x="684360" y="1557360"/>
            <a:ext cx="3089160" cy="4464000"/>
          </a:xfrm>
          <a:prstGeom prst="rect">
            <a:avLst/>
          </a:prstGeom>
          <a:ln w="0">
            <a:noFill/>
          </a:ln>
        </p:spPr>
      </p:pic>
      <p:sp>
        <p:nvSpPr>
          <p:cNvPr id="505" name="Rectangle 10"/>
          <p:cNvSpPr/>
          <p:nvPr/>
        </p:nvSpPr>
        <p:spPr>
          <a:xfrm>
            <a:off x="250920" y="5661000"/>
            <a:ext cx="3744720" cy="720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d6b"/>
                </a:solidFill>
                <a:latin typeface="Tahoma"/>
              </a:rPr>
              <a:t>Геннадий Иванович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d6b"/>
                </a:solidFill>
                <a:latin typeface="Tahoma"/>
              </a:rPr>
              <a:t>Невельск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395280" y="1628640"/>
            <a:ext cx="846936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Rectangle 9"/>
          <p:cNvSpPr/>
          <p:nvPr/>
        </p:nvSpPr>
        <p:spPr>
          <a:xfrm>
            <a:off x="395280" y="260280"/>
            <a:ext cx="8353440" cy="1008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План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Rectangle 10"/>
          <p:cNvSpPr/>
          <p:nvPr/>
        </p:nvSpPr>
        <p:spPr>
          <a:xfrm>
            <a:off x="324000" y="1557360"/>
            <a:ext cx="8640720" cy="5111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5b5d6b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Развитие образовани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buClr>
                <a:srgbClr val="5b5d6b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  </a:t>
            </a: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Развитие науки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buClr>
                <a:srgbClr val="5b5d6b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Русские первооткрыватели и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путешественники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Русские путешественники 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и первооткрывател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067280" y="1600200"/>
            <a:ext cx="47750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В 1822-1825 гг. совершил кругосветное путешествие и оставил потомкам описание увиденного. В 1852-1855 гг. во время  экспедиции были открыты острова Римского – Корсакова, удалось побывать в закрытой Японии и даже подписать с ними догово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8" name="Picture 8" descr="Портрет"/>
          <p:cNvPicPr/>
          <p:nvPr/>
        </p:nvPicPr>
        <p:blipFill>
          <a:blip r:embed="rId1"/>
          <a:stretch/>
        </p:blipFill>
        <p:spPr>
          <a:xfrm>
            <a:off x="611280" y="1700280"/>
            <a:ext cx="3168720" cy="4103640"/>
          </a:xfrm>
          <a:prstGeom prst="rect">
            <a:avLst/>
          </a:prstGeom>
          <a:ln w="0">
            <a:noFill/>
          </a:ln>
        </p:spPr>
      </p:pic>
      <p:sp>
        <p:nvSpPr>
          <p:cNvPr id="509" name="Rectangle 10"/>
          <p:cNvSpPr/>
          <p:nvPr/>
        </p:nvSpPr>
        <p:spPr>
          <a:xfrm>
            <a:off x="250920" y="5661000"/>
            <a:ext cx="3744720" cy="720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d6b"/>
                </a:solidFill>
                <a:latin typeface="Tahoma"/>
              </a:rPr>
              <a:t>Ефимий Васильевич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d6b"/>
                </a:solidFill>
                <a:latin typeface="Tahoma"/>
              </a:rPr>
              <a:t>Путяти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тр. 111 - 1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Поработаем с документами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опросы на стр. 108, 112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Подведём итоги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араграф 16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17, записи, задания в рабочей тетрад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Домашнее задание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8"/>
          <p:cNvSpPr/>
          <p:nvPr/>
        </p:nvSpPr>
        <p:spPr>
          <a:xfrm>
            <a:off x="250920" y="115920"/>
            <a:ext cx="8497800" cy="129708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Развитие образования в первой половине XIX век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50920" y="3213000"/>
            <a:ext cx="499104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Общеобразовательная школа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Calibri"/>
              </a:rPr>
              <a:t>гимназии (7 лет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Calibri"/>
              </a:rPr>
              <a:t>уездные училища (3 год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приходские училищ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(1 год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003640" y="3213000"/>
            <a:ext cx="376560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Высшая школа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Calibri"/>
              </a:rPr>
              <a:t>университеты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Calibri"/>
              </a:rPr>
              <a:t>академ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AutoShape 13"/>
          <p:cNvSpPr/>
          <p:nvPr/>
        </p:nvSpPr>
        <p:spPr>
          <a:xfrm rot="2281200">
            <a:off x="2700000" y="1341360"/>
            <a:ext cx="485640" cy="2087640"/>
          </a:xfrm>
          <a:prstGeom prst="downArrow">
            <a:avLst>
              <a:gd name="adj1" fmla="val 50000"/>
              <a:gd name="adj2" fmla="val 107468"/>
            </a:avLst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AutoShape 14"/>
          <p:cNvSpPr/>
          <p:nvPr/>
        </p:nvSpPr>
        <p:spPr>
          <a:xfrm rot="19635000">
            <a:off x="5508720" y="1341000"/>
            <a:ext cx="485640" cy="2087640"/>
          </a:xfrm>
          <a:prstGeom prst="downArrow">
            <a:avLst>
              <a:gd name="adj1" fmla="val 50000"/>
              <a:gd name="adj2" fmla="val 107468"/>
            </a:avLst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Развитие образования в первой половине XIX век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AutoShape 8"/>
          <p:cNvSpPr/>
          <p:nvPr/>
        </p:nvSpPr>
        <p:spPr>
          <a:xfrm rot="1483800">
            <a:off x="2889360" y="1328760"/>
            <a:ext cx="485640" cy="1284120"/>
          </a:xfrm>
          <a:prstGeom prst="downArrow">
            <a:avLst>
              <a:gd name="adj1" fmla="val 50000"/>
              <a:gd name="adj2" fmla="val 50264"/>
            </a:avLst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AutoShape 9"/>
          <p:cNvSpPr/>
          <p:nvPr/>
        </p:nvSpPr>
        <p:spPr>
          <a:xfrm rot="18648600">
            <a:off x="4968360" y="1176480"/>
            <a:ext cx="485640" cy="1262160"/>
          </a:xfrm>
          <a:prstGeom prst="downArrow">
            <a:avLst>
              <a:gd name="adj1" fmla="val 50000"/>
              <a:gd name="adj2" fmla="val 50271"/>
            </a:avLst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Oval 12"/>
          <p:cNvSpPr/>
          <p:nvPr/>
        </p:nvSpPr>
        <p:spPr>
          <a:xfrm>
            <a:off x="0" y="2276640"/>
            <a:ext cx="3132000" cy="1152360"/>
          </a:xfrm>
          <a:prstGeom prst="ellipse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риходски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дноклассны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училищ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082560" y="1757160"/>
            <a:ext cx="1731600" cy="9666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round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Уездные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трёхклассны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училищ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AutoShape 15"/>
          <p:cNvSpPr/>
          <p:nvPr/>
        </p:nvSpPr>
        <p:spPr>
          <a:xfrm>
            <a:off x="1332000" y="34290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Rectangle 16"/>
          <p:cNvSpPr/>
          <p:nvPr/>
        </p:nvSpPr>
        <p:spPr>
          <a:xfrm>
            <a:off x="179280" y="4292640"/>
            <a:ext cx="2592360" cy="2305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5b5d6b"/>
                </a:solidFill>
                <a:uFillTx/>
                <a:latin typeface="Tahoma"/>
              </a:rPr>
              <a:t>Учились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5b5d6b"/>
                </a:solidFill>
                <a:uFillTx/>
                <a:latin typeface="Tahoma"/>
              </a:rPr>
              <a:t>представител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5b5d6b"/>
                </a:solidFill>
                <a:uFillTx/>
                <a:latin typeface="Tahoma"/>
              </a:rPr>
              <a:t> </a:t>
            </a:r>
            <a:r>
              <a:rPr b="1" lang="en-US" sz="1800" spc="-1" strike="noStrike" u="sng">
                <a:solidFill>
                  <a:srgbClr val="5b5d6b"/>
                </a:solidFill>
                <a:uFillTx/>
                <a:latin typeface="Tahoma"/>
              </a:rPr>
              <a:t>«низов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87b2e"/>
                </a:solidFill>
                <a:uFillTx/>
                <a:latin typeface="Tahoma"/>
              </a:rPr>
              <a:t>Изучал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5b5d6b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Закон Бож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5b5d6b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Грамот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5b5d6b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арифметик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Rectangle 18"/>
          <p:cNvSpPr/>
          <p:nvPr/>
        </p:nvSpPr>
        <p:spPr>
          <a:xfrm>
            <a:off x="5857920" y="3860640"/>
            <a:ext cx="2962080" cy="2808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87b2e"/>
                </a:solidFill>
                <a:uFillTx/>
                <a:latin typeface="Tahoma"/>
              </a:rPr>
              <a:t>Учились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5b5d6b"/>
                </a:solidFill>
                <a:uFillTx/>
                <a:latin typeface="Tahoma"/>
              </a:rPr>
              <a:t>Дети ремесленников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5b5d6b"/>
                </a:solidFill>
                <a:uFillTx/>
                <a:latin typeface="Tahoma"/>
              </a:rPr>
              <a:t>мещан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87b2e"/>
                </a:solidFill>
                <a:uFillTx/>
                <a:latin typeface="Tahoma"/>
              </a:rPr>
              <a:t>Изучал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5b5d6b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русский язы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5b5d6b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Арифметик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5b5d6b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Геометрию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5b5d6b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Историю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5b5d6b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географию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AutoShape 19"/>
          <p:cNvSpPr/>
          <p:nvPr/>
        </p:nvSpPr>
        <p:spPr>
          <a:xfrm>
            <a:off x="3929040" y="1357200"/>
            <a:ext cx="485640" cy="1224000"/>
          </a:xfrm>
          <a:prstGeom prst="downArrow">
            <a:avLst>
              <a:gd name="adj1" fmla="val 50000"/>
              <a:gd name="adj2" fmla="val 63010"/>
            </a:avLst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Rectangle 20"/>
          <p:cNvSpPr/>
          <p:nvPr/>
        </p:nvSpPr>
        <p:spPr>
          <a:xfrm>
            <a:off x="3071880" y="4572000"/>
            <a:ext cx="2663640" cy="194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d6b"/>
                </a:solidFill>
                <a:latin typeface="Tahoma"/>
              </a:rPr>
              <a:t>Учились дети дворян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d6b"/>
                </a:solidFill>
                <a:latin typeface="Tahoma"/>
              </a:rPr>
              <a:t>чиновников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d6b"/>
                </a:solidFill>
                <a:latin typeface="Tahoma"/>
              </a:rPr>
              <a:t>купцов перво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d6b"/>
                </a:solidFill>
                <a:latin typeface="Tahoma"/>
              </a:rPr>
              <a:t>гильд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Oval 21"/>
          <p:cNvSpPr/>
          <p:nvPr/>
        </p:nvSpPr>
        <p:spPr>
          <a:xfrm>
            <a:off x="3348000" y="2565360"/>
            <a:ext cx="2581200" cy="1366920"/>
          </a:xfrm>
          <a:prstGeom prst="ellipse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Семиклассные гимнази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AutoShape 22"/>
          <p:cNvSpPr/>
          <p:nvPr/>
        </p:nvSpPr>
        <p:spPr>
          <a:xfrm>
            <a:off x="4329000" y="357336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AutoShape 23"/>
          <p:cNvSpPr/>
          <p:nvPr/>
        </p:nvSpPr>
        <p:spPr>
          <a:xfrm>
            <a:off x="6877080" y="2940120"/>
            <a:ext cx="485640" cy="849240"/>
          </a:xfrm>
          <a:prstGeom prst="downArrow">
            <a:avLst>
              <a:gd name="adj1" fmla="val 50000"/>
              <a:gd name="adj2" fmla="val 43718"/>
            </a:avLst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В 1811 году был открыт Александровский            ( Царскосельский) лицей, в котором обучались представители высшего дворянского общества   ( в том числе и А.С. Пушкин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2" name="Picture 7" descr="mesta_20_1"/>
          <p:cNvPicPr/>
          <p:nvPr/>
        </p:nvPicPr>
        <p:blipFill>
          <a:blip r:embed="rId1"/>
          <a:stretch/>
        </p:blipFill>
        <p:spPr>
          <a:xfrm>
            <a:off x="324000" y="1771560"/>
            <a:ext cx="4032000" cy="265752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Развитие образования в первой половине XIX век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Развитие образования в первой половине XIX век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Rectangle 8"/>
          <p:cNvSpPr/>
          <p:nvPr/>
        </p:nvSpPr>
        <p:spPr>
          <a:xfrm>
            <a:off x="5003640" y="1628640"/>
            <a:ext cx="3780000" cy="93672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Дерптский университ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1802 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Rectangle 9"/>
          <p:cNvSpPr/>
          <p:nvPr/>
        </p:nvSpPr>
        <p:spPr>
          <a:xfrm>
            <a:off x="5003640" y="3860640"/>
            <a:ext cx="3816360" cy="100836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Харьковский университ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804 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Rectangle 10"/>
          <p:cNvSpPr/>
          <p:nvPr/>
        </p:nvSpPr>
        <p:spPr>
          <a:xfrm>
            <a:off x="5003640" y="2708280"/>
            <a:ext cx="3816360" cy="1008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Казанский университ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804 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Rectangle 11"/>
          <p:cNvSpPr/>
          <p:nvPr/>
        </p:nvSpPr>
        <p:spPr>
          <a:xfrm>
            <a:off x="1692360" y="5805360"/>
            <a:ext cx="3311280" cy="8892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иленский университ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1804 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Rectangle 12"/>
          <p:cNvSpPr/>
          <p:nvPr/>
        </p:nvSpPr>
        <p:spPr>
          <a:xfrm>
            <a:off x="5003640" y="5013360"/>
            <a:ext cx="3816360" cy="86364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етербургский университ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819 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AutoShape 13"/>
          <p:cNvSpPr/>
          <p:nvPr/>
        </p:nvSpPr>
        <p:spPr>
          <a:xfrm rot="16200000">
            <a:off x="3968640" y="1440000"/>
            <a:ext cx="486000" cy="1584000"/>
          </a:xfrm>
          <a:prstGeom prst="downArrow">
            <a:avLst>
              <a:gd name="adj1" fmla="val 50000"/>
              <a:gd name="adj2" fmla="val 81481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1" name="Picture 16" descr="Рисунок10"/>
          <p:cNvPicPr/>
          <p:nvPr/>
        </p:nvPicPr>
        <p:blipFill>
          <a:blip r:embed="rId1"/>
          <a:stretch/>
        </p:blipFill>
        <p:spPr>
          <a:xfrm>
            <a:off x="468360" y="1700280"/>
            <a:ext cx="2944800" cy="3816360"/>
          </a:xfrm>
          <a:prstGeom prst="rect">
            <a:avLst/>
          </a:prstGeom>
          <a:ln w="76320">
            <a:solidFill>
              <a:srgbClr val="a3c145"/>
            </a:solidFill>
            <a:miter/>
          </a:ln>
        </p:spPr>
      </p:pic>
      <p:sp>
        <p:nvSpPr>
          <p:cNvPr id="422" name="AutoShape 18"/>
          <p:cNvSpPr/>
          <p:nvPr/>
        </p:nvSpPr>
        <p:spPr>
          <a:xfrm rot="18772800">
            <a:off x="1029240" y="5531040"/>
            <a:ext cx="485640" cy="890640"/>
          </a:xfrm>
          <a:prstGeom prst="downArrow">
            <a:avLst>
              <a:gd name="adj1" fmla="val 50000"/>
              <a:gd name="adj2" fmla="val 45849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AutoShape 19"/>
          <p:cNvSpPr/>
          <p:nvPr/>
        </p:nvSpPr>
        <p:spPr>
          <a:xfrm rot="16200000">
            <a:off x="4113360" y="2393640"/>
            <a:ext cx="485640" cy="1584360"/>
          </a:xfrm>
          <a:prstGeom prst="downArrow">
            <a:avLst>
              <a:gd name="adj1" fmla="val 50000"/>
              <a:gd name="adj2" fmla="val 8156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AutoShape 20"/>
          <p:cNvSpPr/>
          <p:nvPr/>
        </p:nvSpPr>
        <p:spPr>
          <a:xfrm rot="16200000">
            <a:off x="4041360" y="3527280"/>
            <a:ext cx="486000" cy="1584360"/>
          </a:xfrm>
          <a:prstGeom prst="downArrow">
            <a:avLst>
              <a:gd name="adj1" fmla="val 50000"/>
              <a:gd name="adj2" fmla="val 8150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AutoShape 21"/>
          <p:cNvSpPr/>
          <p:nvPr/>
        </p:nvSpPr>
        <p:spPr>
          <a:xfrm rot="16200000">
            <a:off x="3968640" y="4535640"/>
            <a:ext cx="486000" cy="1584000"/>
          </a:xfrm>
          <a:prstGeom prst="downArrow">
            <a:avLst>
              <a:gd name="adj1" fmla="val 50000"/>
              <a:gd name="adj2" fmla="val 81481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Развитие образования в первой половине XIX век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7" name="Rectangle 7"/>
          <p:cNvSpPr/>
          <p:nvPr/>
        </p:nvSpPr>
        <p:spPr>
          <a:xfrm>
            <a:off x="179280" y="1628640"/>
            <a:ext cx="8785440" cy="5113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В 20-50 – е годы отношение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правительства к нуждам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образования изменилось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Теперь школ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была нацелена на воспитание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нравственности,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основанной на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религиозных началах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Увеличивалось и число высших учебных заведений. Особенно быстро развивались училища по подготовке специалистов в различных областях. Рос объём литературы для всех слоёв населения. Развивалось и библиотечное дело. В 30-40 –е годы библиотеки были  открыты по инициативе местной общественности в большинстве уездных и губернских город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Совершенствование системы образования во многом способствовало развитию отечественной нау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title"/>
          </p:nvPr>
        </p:nvSpPr>
        <p:spPr>
          <a:xfrm>
            <a:off x="250920" y="-360"/>
            <a:ext cx="8642160" cy="126828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Развитие образования в первой половине XIX век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МаН</cp:lastModifiedBy>
  <dcterms:modified xsi:type="dcterms:W3CDTF">2012-03-01T11:51:04Z</dcterms:modified>
  <cp:revision>18</cp:revision>
  <dc:subject/>
  <dc:title>Древний Египет</dc:title>
</cp:coreProperties>
</file>